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572F5-4F0E-4ED9-95CF-CBDE2F6B9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9CE0B-7E25-428D-89B9-487A6A9C3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8B5E8-A589-49A4-897B-4CFF6EE6D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F144C-6604-4F95-BED7-7B3D64B8B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20A74-2B95-4CA3-B5CC-949F8A1E2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DDD02-1BAF-4823-A1FD-60D857B76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17ADD-C8BE-4825-A015-3BA5F47AB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157CC-E1A1-4242-9FBF-62328F8AC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0E95D-0148-4925-8C1A-4E5232CCE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5A601-C091-48BA-9566-B6F6DE00E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8C66B-642A-45D1-9371-B701DD917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0EC63-1578-4164-AB58-9617045D7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225D6-2E25-4908-8C57-11DCC2ABC3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English111 Vivace BT"/>
              </a:rPr>
              <a:t>Recette:</a:t>
            </a:r>
            <a:r>
              <a:rPr b="0" lang="fr-FR" sz="4400" spc="-1" strike="noStrike">
                <a:solidFill>
                  <a:srgbClr val="000000"/>
                </a:solidFill>
                <a:latin typeface="English111 Vivace BT"/>
              </a:rPr>
              <a:t> “Mousse Rouzanna au Chocolat Noir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 rot="20901000">
            <a:off x="395280" y="2276280"/>
            <a:ext cx="5477040" cy="3647880"/>
          </a:xfrm>
          <a:prstGeom prst="rect">
            <a:avLst/>
          </a:prstGeom>
          <a:ln w="28440">
            <a:solidFill>
              <a:srgbClr val="130e07"/>
            </a:solidFill>
            <a:miter/>
          </a:ln>
        </p:spPr>
      </p:pic>
      <p:sp>
        <p:nvSpPr>
          <p:cNvPr id="43" name=""/>
          <p:cNvSpPr/>
          <p:nvPr/>
        </p:nvSpPr>
        <p:spPr>
          <a:xfrm>
            <a:off x="5940360" y="1916280"/>
            <a:ext cx="2879640" cy="49003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*Pour 4 personnes 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English111 Vivace BT"/>
              </a:rPr>
              <a:t>F</a:t>
            </a:r>
            <a:r>
              <a:rPr b="0" lang="fr-FR" sz="1600" spc="-1" strike="noStrike">
                <a:solidFill>
                  <a:srgbClr val="000000"/>
                </a:solidFill>
                <a:latin typeface="Tahoma"/>
              </a:rPr>
              <a:t>ouettez longuement 12 jaunes d’œufs et versez-y 250 g de chocolat noir fond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English111 Vivace BT"/>
              </a:rPr>
              <a:t>I</a:t>
            </a:r>
            <a:r>
              <a:rPr b="0" lang="fr-FR" sz="1600" spc="-1" strike="noStrike">
                <a:solidFill>
                  <a:srgbClr val="000000"/>
                </a:solidFill>
                <a:latin typeface="Tahoma"/>
              </a:rPr>
              <a:t>ncorporez délicatement à la spatule 12 blancs d’œufs en neige bien ferm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English111 Vivace BT"/>
              </a:rPr>
              <a:t>T</a:t>
            </a:r>
            <a:r>
              <a:rPr b="0" lang="fr-FR" sz="1600" spc="-1" strike="noStrike">
                <a:solidFill>
                  <a:srgbClr val="000000"/>
                </a:solidFill>
                <a:latin typeface="Tahoma"/>
              </a:rPr>
              <a:t>erminez en glissant dans la mousse des coupeaux de chocolat réalisés avec un couteau économ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English111 Vivace BT"/>
              </a:rPr>
              <a:t>L</a:t>
            </a:r>
            <a:r>
              <a:rPr b="0" lang="fr-FR" sz="1600" spc="-1" strike="noStrike">
                <a:solidFill>
                  <a:srgbClr val="000000"/>
                </a:solidFill>
                <a:latin typeface="Tahoma"/>
              </a:rPr>
              <a:t>aissez la mousse prendre une nuit au réfrigérateur avant de la servi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2T17:59:21Z</dcterms:created>
  <dc:creator>Usuario</dc:creator>
  <dc:description/>
  <dc:language>en-US</dc:language>
  <cp:lastModifiedBy>Usuario</cp:lastModifiedBy>
  <dcterms:modified xsi:type="dcterms:W3CDTF">2011-05-12T17:59:26Z</dcterms:modified>
  <cp:revision>1</cp:revision>
  <dc:subject/>
  <dc:title>Recette: “Mousse Rouzanna au Chocolat Noir”</dc:title>
</cp:coreProperties>
</file>